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3827-B3F0-461E-81A8-3401403C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E55B-8F54-4DF3-8471-9A5D41CC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EE9C-105A-48C5-9A40-2A498E0C3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640D-F91A-44D6-9CA1-448A39CA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5510-64C5-4A88-AFF8-A73970DF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CA75-8F30-4421-AD90-AC5C3A89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ABAD-29E7-4F99-95F0-69CC0C35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A50A-25B1-4411-8230-D55F362A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0B4F-9A45-4E05-AA4D-C9320DAD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54BF-08E6-4126-9890-826AC6FC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3C56-9055-473F-983B-A2F9C14D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6DCF-60E9-4684-91E2-A13C8AF2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CD4A-98BC-4810-9ED9-4F2CCEABE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4443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4471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8280" y="838080"/>
            <a:ext cx="42674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62320" y="609480"/>
            <a:ext cx="3817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6:40:40Z</dcterms:created>
  <dc:creator>Faribault Public Schools</dc:creator>
  <dc:description/>
  <dc:language>en-US</dc:language>
  <cp:lastModifiedBy>Faribault Public Schools</cp:lastModifiedBy>
  <dcterms:modified xsi:type="dcterms:W3CDTF">2010-02-15T16:40:40Z</dcterms:modified>
  <cp:revision>1</cp:revision>
  <dc:subject/>
  <dc:title>Slide 1</dc:title>
</cp:coreProperties>
</file>