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B2D6-6FCA-4D39-B542-70307763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DA9-8221-4297-8E74-4A87B3C3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CA79-1320-40DE-9777-5A333CF2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BE7-8B37-40C5-821E-B515DB29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41B0-AFA5-4CDE-9DF5-55AC49D5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341-4CF3-435F-9E7B-6FCE2F72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9DF-14D4-4306-9126-5E439666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7B1-3E06-465D-8556-B8620FB4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14F9-1252-4620-839E-F68EEF83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672B-2E19-46E0-A79B-4D95EAFD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294-6EA4-4388-BF4F-CAB25D3A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75E-BA97-4899-B366-32BFD13B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7357-47D5-40F2-9B31-6AC51CD11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4443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4471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42674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609480"/>
            <a:ext cx="3817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6:40:40Z</dcterms:created>
  <dc:creator>Faribault Public Schools</dc:creator>
  <dc:description/>
  <dc:language>en-US</dc:language>
  <cp:lastModifiedBy>Faribault Public Schools</cp:lastModifiedBy>
  <dcterms:modified xsi:type="dcterms:W3CDTF">2010-02-15T16:40:40Z</dcterms:modified>
  <cp:revision>1</cp:revision>
  <dc:subject/>
  <dc:title>Slide 1</dc:title>
</cp:coreProperties>
</file>