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363-E811-43D8-96C5-F05EB7FD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1CF-CAEB-4F16-9877-898E4F0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8E9-E2DB-4D91-B4D3-CEE0BBCC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8EE-44F1-4A9C-B126-EE0878C2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90C-326F-4ECA-A3E4-839B3C96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7E8-5A2B-410F-ADDA-6AF22EF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E12-B51C-4E41-B01B-5FD910F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F31-686F-4BEA-ACEF-E0581CA7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207-E1B8-45E2-97AE-69932BC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6E7-9125-453D-8589-260EB5E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913-1E43-43BA-A0F6-7A0B9FD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DC2-77B2-444F-9122-D3E93FC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D9B3-6E12-4717-861A-D6029CD5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4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7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267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3817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40:40Z</dcterms:created>
  <dc:creator>Faribault Public Schools</dc:creator>
  <dc:description/>
  <dc:language>en-US</dc:language>
  <cp:lastModifiedBy>Faribault Public Schools</cp:lastModifiedBy>
  <dcterms:modified xsi:type="dcterms:W3CDTF">2010-02-15T16:40:40Z</dcterms:modified>
  <cp:revision>1</cp:revision>
  <dc:subject/>
  <dc:title>Slide 1</dc:title>
</cp:coreProperties>
</file>